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7769-AF49-4DAC-ACB5-E1FBDB5C9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3844-32FF-4CA7-AAB4-AFC1D93AAAC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CE1B-80DC-4209-A354-BEEA27DD9BE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CA8A-9936-40D6-B218-B197FE26A3B0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0729-B899-43CF-B2B4-E0D620CEFFC1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F02D-99CF-41EB-9378-ED831EC15D67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88DA-1A8B-4DF6-B845-A828478B54FF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F4BC-4478-44C2-A54F-AE1185BD41F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1756-3AEA-4DFB-9163-4AC45BF0772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0B3B-8B90-451F-8203-5AEAF209E008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3A31-8A8D-4EAA-8254-60F096B1B864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FF90-AF2A-477D-8385-E1B49DB05ED3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3109-5976-40E0-AF10-28290F9D968D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BF0-754F-4F3A-85DC-EC5F6A20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DE4-7DFC-4D3C-ABC5-A2D6990E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F25-B5CD-41C4-B9BD-06F277F9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DA3-57BA-40EA-84AB-E50605E7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7C9B-AA5F-48FF-B67F-128E2D9C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4C40-E4B5-4404-A71D-25BE8C17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F0E5-3494-4E71-A2B0-FAA57330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CF79-9664-42FA-939F-8A8AE271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CA8B-0F98-4B03-BAB6-31DA8B09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DF03-0419-4FEB-AED0-FB5F57A5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8ABF-4F21-4CB6-9B41-F094B654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883-00F0-4A31-A80D-B04B9979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0C18-9F03-48BF-A40A-FD173B6F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5984-8782-49A8-8579-A9647D8E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21F4-BD42-4E93-94F1-4FF428F7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AC41-CE2E-4A12-8190-D495E32A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39F7-9A77-439E-8E5E-FB552E0A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52E-8473-4107-924C-ED609562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F0E-363A-4CB6-922A-F4B1453C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287-1F70-45B1-A6A7-7CA1A4DD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34A-15A6-4B31-B193-B89F9206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6E5-CBB7-437F-9912-EDA2DAF6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989-CC56-45FB-99FD-53029A83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E77-7F90-4423-A8FE-6D7D64F5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0DDD-DB0E-47B6-9797-EAFB3090CEA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A16A-193E-480D-890D-76D599A3CD3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alstad.com/ripple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aeaea"/>
                </a:solidFill>
                <a:latin typeface="Comic Sans MS"/>
              </a:rPr>
              <a:t>Keep on Waving</a:t>
            </a:r>
            <a:endParaRPr b="0" lang="en-US" sz="88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Behavior of Water Waves</a:t>
            </a:r>
            <a:br>
              <a:rPr sz="3600"/>
            </a:b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Two different shapes of waves may be created in water depending on the vibrating sourc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Circular Waves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2031840" y="1676520"/>
          <a:ext cx="5842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676520"/>
                    <a:ext cx="5842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Parallel or Linear Waves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2006640" y="1676520"/>
          <a:ext cx="5891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1676520"/>
                    <a:ext cx="5891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 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The advancing boundary of each wave crest is called the </a:t>
            </a:r>
            <a:r>
              <a:rPr b="1" i="1" lang="en-US" sz="36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wave front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.  Lines perpendicular to the wave fronts are called </a:t>
            </a:r>
            <a:r>
              <a:rPr b="1" i="1" lang="en-US" sz="36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wave rays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.  The ray at each point of a wave front shows the direction in which that particular point is moving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447920" y="59436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b97c01"/>
                </a:solidFill>
                <a:uFillTx/>
                <a:latin typeface="Arial Narrow"/>
                <a:hlinkClick r:id="rId1"/>
              </a:rPr>
              <a:t>http://www.falstad.com/ripple/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bd18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657600" y="167652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Arial"/>
              </a:rPr>
              <a:t>Pg 34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Arial"/>
              </a:rPr>
              <a:t>#’s 5,6,7,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1" name="Picture 4" descr="Astronomical Units"/>
          <p:cNvPicPr/>
          <p:nvPr/>
        </p:nvPicPr>
        <p:blipFill>
          <a:blip r:embed="rId1"/>
          <a:stretch/>
        </p:blipFill>
        <p:spPr>
          <a:xfrm>
            <a:off x="3048120" y="28954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Universal Wave Equation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**</a:t>
            </a:r>
            <a:r>
              <a:rPr b="0" i="1" lang="en-US" sz="48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v = ƒ </a:t>
            </a:r>
            <a:r>
              <a:rPr b="1" i="1" lang="en-US" sz="4800" spc="-1" strike="noStrike">
                <a:solidFill>
                  <a:srgbClr val="eaeaea"/>
                </a:solidFill>
                <a:latin typeface="Lucida Grande"/>
                <a:ea typeface="Times New Roman"/>
              </a:rPr>
              <a:t>λ</a:t>
            </a:r>
            <a:r>
              <a:rPr b="1" i="1" lang="en-US" sz="48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**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ƒ (frequency)</a:t>
            </a:r>
            <a:r>
              <a:rPr b="0" i="1" lang="en-US" sz="28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–depends on the frequency of the sour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Lucida Grande"/>
                <a:ea typeface="Times New Roman"/>
              </a:rPr>
              <a:t>λ</a:t>
            </a: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 (wavelength)</a:t>
            </a:r>
            <a:r>
              <a:rPr b="0" i="1" lang="en-US" sz="28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–depends on the frequency of the source or the velo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V (velocity)</a:t>
            </a:r>
            <a:r>
              <a:rPr b="0" i="1" lang="en-US" sz="28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–depends on the properties of the medium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925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 </a:t>
            </a:r>
            <a:r>
              <a:rPr b="0" i="1" lang="en-US" sz="32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The speed of sound in air at 0˚ is always 331.5 m/s regardless of the frequency.  If the frequency of the sound changes, the wavelength adjusts so that the </a:t>
            </a:r>
            <a:r>
              <a:rPr b="0" i="1" lang="en-US" sz="3200" spc="-1" strike="noStrike" u="sng">
                <a:solidFill>
                  <a:srgbClr val="eaeaea"/>
                </a:solidFill>
                <a:uFillTx/>
                <a:latin typeface="Comic Sans MS"/>
                <a:ea typeface="Times New Roman"/>
              </a:rPr>
              <a:t>velocity remains a constan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Frequency and wavelength are inversely proportional to each other.</a:t>
            </a:r>
            <a:r>
              <a:rPr b="0" i="1" lang="en-US" sz="32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Example:  </a:t>
            </a:r>
            <a:r>
              <a:rPr b="1" i="1" lang="en-US" sz="3600" spc="-1" strike="noStrike">
                <a:solidFill>
                  <a:srgbClr val="eaeaea"/>
                </a:solidFill>
                <a:latin typeface="Lucida Grande"/>
                <a:ea typeface="Times New Roman"/>
              </a:rPr>
              <a:t>λ</a:t>
            </a:r>
            <a:r>
              <a:rPr b="1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= v/ƒ   or  ƒ = v /</a:t>
            </a:r>
            <a:r>
              <a:rPr b="1" i="1" lang="en-US" sz="3600" spc="-1" strike="noStrike">
                <a:solidFill>
                  <a:srgbClr val="eaeaea"/>
                </a:solidFill>
                <a:latin typeface="Lucida Grande"/>
                <a:ea typeface="Times New Roman"/>
              </a:rPr>
              <a:t>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-9360360"/>
            <a:ext cx="7632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CA" sz="36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 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**Speed of light – 3.0 x 10</a:t>
            </a:r>
            <a:r>
              <a:rPr b="0" i="1" lang="en-US" sz="3600" spc="-1" strike="noStrike" baseline="30000">
                <a:solidFill>
                  <a:srgbClr val="eaeaea"/>
                </a:solidFill>
                <a:latin typeface="Comic Sans MS"/>
                <a:ea typeface="Times New Roman"/>
              </a:rPr>
              <a:t>8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 m/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Comic Sans MS"/>
              </a:rPr>
              <a:t>Always in air (dependant on the medium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bd189"/>
                </a:solidFill>
                <a:latin typeface="Comic Sans MS"/>
              </a:rPr>
              <a:t>Sample Problem #1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61760" y="1219320"/>
            <a:ext cx="7848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A sound wave has a frequency of 285 Hz.  What is the time between successive wave crests?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(Hint: If you are looking for time it must be </a:t>
            </a:r>
            <a:r>
              <a:rPr b="1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period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.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14400" y="4648320"/>
            <a:ext cx="708660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ƒ = 285 Hz  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T = 1/ƒ = 1/285 = 3.51 x 10</a:t>
            </a:r>
            <a:r>
              <a:rPr b="0" i="1" lang="en-US" sz="3600" spc="-1" strike="noStrike" baseline="30000">
                <a:solidFill>
                  <a:srgbClr val="eaeaea"/>
                </a:solidFill>
                <a:latin typeface="Comic Sans MS"/>
                <a:ea typeface="Times New Roman"/>
              </a:rPr>
              <a:t>-3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  <a:ea typeface="Times New Roman"/>
              </a:rPr>
              <a:t>s</a:t>
            </a:r>
            <a:r>
              <a:rPr b="0" i="1" lang="en-US" sz="36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bd189"/>
                </a:solidFill>
                <a:latin typeface="Comic Sans MS"/>
              </a:rPr>
              <a:t>Sample Problem #2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eaeaea"/>
                </a:solidFill>
                <a:latin typeface="Arial Narrow"/>
              </a:rPr>
              <a:t>A longitudinal wave passing through a 10.0m long spring has a wavelength of 0.45m and a speed of 6.5 m/s a) find the frequency of the wave in Hz. b) How long would it take the wave to travel the length of the spring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1396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48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1" name="Object 6"/>
          <p:cNvGraphicFramePr/>
          <p:nvPr/>
        </p:nvGraphicFramePr>
        <p:xfrm>
          <a:off x="1371600" y="914400"/>
          <a:ext cx="64008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14400"/>
                    <a:ext cx="64008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d = v 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t = d / v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t = 10m / 6.5m/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t = 1.54 s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bd189"/>
                </a:solidFill>
                <a:latin typeface="Comic Sans MS"/>
              </a:rPr>
              <a:t>Sample Problem #3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Arial"/>
              </a:rPr>
              <a:t>The FOX’s radio waves have  a frequency of around 1 MHz (M=10</a:t>
            </a:r>
            <a:r>
              <a:rPr b="0" lang="en-CA" sz="3200" spc="-1" strike="noStrike" baseline="30000">
                <a:solidFill>
                  <a:srgbClr val="eaeaea"/>
                </a:solidFill>
                <a:latin typeface="Arial"/>
              </a:rPr>
              <a:t>6</a:t>
            </a:r>
            <a:r>
              <a:rPr b="0" lang="en-CA" sz="3200" spc="-1" strike="noStrike">
                <a:solidFill>
                  <a:srgbClr val="eaeaea"/>
                </a:solidFill>
                <a:latin typeface="Arial"/>
              </a:rPr>
              <a:t>) and travel at the speed of light. Find their corresponding wavelength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1066680" y="4648320"/>
          <a:ext cx="662940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648320"/>
                    <a:ext cx="662940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23:45:40Z</dcterms:created>
  <dc:creator>Julie Franklin</dc:creator>
  <dc:description/>
  <dc:language>en-US</dc:language>
  <cp:lastModifiedBy>susan.watson</cp:lastModifiedBy>
  <dcterms:modified xsi:type="dcterms:W3CDTF">2009-12-08T22:53:29Z</dcterms:modified>
  <cp:revision>19</cp:revision>
  <dc:subject/>
  <dc:title>PowerPoint Presentation</dc:title>
</cp:coreProperties>
</file>